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D5B-55FE-4835-912F-8A980F6C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7CC-89FC-4991-9D06-D935EBD5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037-2BF3-4297-8582-2FC1F5B2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9E2-687D-4671-A3A7-7212CADB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3747-A401-490E-8176-9E4CCB75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4AB7-D2A6-4A8C-BF80-5C61E0A1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1578-9900-4D30-B7CE-55BE0067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E3D8-9DDF-463F-98AC-1859B109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FC7E-5285-4982-BB63-8FB7CF6C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CD1F-8646-47A6-B6AD-22C6C3D6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DD25-7A3E-494E-9AF4-762E4E89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007-1F81-4B8F-A30F-691C313E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49BB-0E5C-4DDD-86CC-37F5DD9C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77A4-236B-48CF-8D93-A84940F4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27B6-B699-4FAB-8441-F19E8F71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E5DD-1FFA-47C2-B967-DB126D08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493E-0D34-4F80-B2C2-F4325B6C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8ACD-FFD0-474A-841B-34EC3BAA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157DA-0552-4BC8-96C5-1D8726E1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8B94-9BF3-40C9-A1C7-65E44FAC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D820F-6954-4AF8-B4CD-0EF6969A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27DF8-6BBD-4A2C-9948-A85819FF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EBD-B378-4170-85B9-9AFE1D82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B5028-CEED-4240-A13D-D9681D42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5780-CB46-48AC-B7E0-3BD3A173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34DCF-F2D8-4F93-AF4D-B597EA4C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F4ADF-C004-486B-87CA-AA3D6900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A5E72-A625-4020-BC65-2160A213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BC335-3BC9-41B5-98FF-FAF42272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5CDF-97F7-431E-88EB-351F9B2E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C66BE-1C95-43C5-84D7-D0B224B0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1C326-C095-40B2-8DF0-A6FDB5FA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23D24-B7BD-40E2-9909-54213489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2FB-2AE1-410A-9E8F-28A67EA7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9A73E-8571-434B-A55E-2F217849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18957-9E7D-4673-986D-75A7A1B4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6F52F-B06C-4061-A050-55D73436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BF907-A930-4E6C-B624-1EEE42D0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DC543-3EA7-44D8-A42A-2E551765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50A11-C7E7-4EB6-B478-21ECBA61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BBD18-94E9-4B9D-80CE-8587B699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A108F-9F17-4AF6-84F5-DB8103EE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42E3F-42D0-4A04-B690-2C3F4732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A24CF-DCF6-4D21-87EF-CB6DA51E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54F-7CAC-42E1-8F62-91A5DE2F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2A934-9428-4B7E-9E97-5EB42DA1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CBEE1-E5EA-45A5-B2AD-A10BDAC0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BFAFB-ABBE-4F45-9F28-1B95EA41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D467E-0988-4955-94D8-FD54DFAF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7CAD4-54E4-452A-9BE2-F0E40B47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B624A-EFA9-4C35-9A3E-0BBDE704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14BCF-D010-44DB-A7CE-2FA7A84E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3C711-C6C4-4C9B-8CAD-85418468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29713-FA54-4B2F-AB7C-49D4AFEF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D0EDD-C3FE-41CB-87F5-522DCB91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9D5-ACAC-4EA6-B6EF-B2AD1449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4878A-E435-49FA-B551-839277A2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C4A96-733B-4C32-ABF1-3CFED658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BF6C1-8806-42EA-ABBD-DF7FF6F6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29325-C8DB-42FB-8C81-08BD1F1E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CF35C-57BA-4ECB-AA38-787BF82C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76A60-4A22-435A-968E-E02AED83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3F1AF-C69A-4149-A403-8B14DE20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E0FAB-DD10-42E4-BB1A-43481284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722A7-FE29-450B-B6BE-66ADD660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C763E-F340-4249-B101-48A249A2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CC7-1441-4090-B7A0-038C07B7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09ED5-89D4-44F5-B1C3-845BFB33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98E73-F83F-42B1-BBFC-21A9BB07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E21C3-19B5-433A-8C64-C97B7CCF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48D17-6260-4457-B83A-EB612FD8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4E481-BA2B-47E3-A173-9105B4F1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B3A63-3F61-4000-8092-EF91860E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B601B-FC01-4BCC-90D0-7418837E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B545F-1E9D-46B9-B626-DF0276AA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78BD0-3781-4AA1-BFF8-163A6820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C7796-13B0-4BDB-BA2E-8B110A3D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D10-15A9-4507-AD32-7AF8EAD5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70EA3-0569-46BA-B135-3BA2392B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3A468-5453-478F-83ED-1FE4D6AB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12957-F0EC-4E01-A08D-631C5152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70998-34EE-4669-94AF-177A7DDD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3E9C9-48AE-41CF-879F-8E06F9C5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91FA8-2495-411D-8077-EAA3A562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6814C-4786-4D77-8D1B-0BC83D28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9CAE1-CF0C-40FE-A97C-93876F4E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DC229-A6C4-47C7-B8FF-586DB439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E9A4E-1D9C-4961-926D-4574CC08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6A0-7612-434C-ABE4-96546072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FE66E-8224-4604-991E-1F29815A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F49FE-22D3-484D-BBA9-8D5422FF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A0C62-72F4-42F6-A39C-61429FD1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DC25D-7F18-47D3-B3E8-D872CE9E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3280" y="4238640"/>
            <a:ext cx="90741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EDCCC-251D-468C-A0D9-CBE35576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53040" y="163332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0328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153040" y="4238640"/>
            <a:ext cx="442800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E9FAD-346F-4FCB-9791-F9DD5511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328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7156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639840" y="163332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328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7156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639840" y="4238640"/>
            <a:ext cx="2921760" cy="2378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21144-8972-4DDA-A2BB-2D52B01B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12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igura a mano libera 11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angolo rettangolo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3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nettore 1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8150-57BA-4F7A-8B5F-1933B292E4B7}" type="slidenum">
              <a:rPr b="0" lang="it-IT" sz="11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igura a mano libera 12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Figura a mano libera 11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Triangolo rettangolo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50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Connettore 1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Triangolo rettangolo 10"/>
          <p:cNvSpPr/>
          <p:nvPr/>
        </p:nvSpPr>
        <p:spPr>
          <a:xfrm>
            <a:off x="0" y="5141880"/>
            <a:ext cx="1008864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50040" bIns="-50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4" name="Gruppo 15"/>
          <p:cNvGrpSpPr/>
          <p:nvPr/>
        </p:nvGrpSpPr>
        <p:grpSpPr>
          <a:xfrm>
            <a:off x="-4680" y="5459400"/>
            <a:ext cx="10085400" cy="2108160"/>
            <a:chOff x="-4680" y="5459400"/>
            <a:chExt cx="10085400" cy="2108160"/>
          </a:xfrm>
        </p:grpSpPr>
        <p:sp>
          <p:nvSpPr>
            <p:cNvPr id="55" name="Figura a mano libera 16"/>
            <p:cNvSpPr/>
            <p:nvPr/>
          </p:nvSpPr>
          <p:spPr>
            <a:xfrm>
              <a:off x="1864800" y="5459400"/>
              <a:ext cx="8207640" cy="537120"/>
            </a:xfrm>
            <a:custGeom>
              <a:avLst/>
              <a:gdLst>
                <a:gd name="textAreaLeft" fmla="*/ 0 w 8207640"/>
                <a:gd name="textAreaRight" fmla="*/ 8208000 w 8207640"/>
                <a:gd name="textAreaTop" fmla="*/ 0 h 537120"/>
                <a:gd name="textAreaBottom" fmla="*/ 537480 h 5371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6" name="Figura a mano libera 18"/>
            <p:cNvSpPr/>
            <p:nvPr/>
          </p:nvSpPr>
          <p:spPr>
            <a:xfrm>
              <a:off x="46440" y="5772600"/>
              <a:ext cx="10026000" cy="867960"/>
            </a:xfrm>
            <a:custGeom>
              <a:avLst/>
              <a:gdLst>
                <a:gd name="textAreaLeft" fmla="*/ 0 w 10026000"/>
                <a:gd name="textAreaRight" fmla="*/ 10026360 w 10026000"/>
                <a:gd name="textAreaTop" fmla="*/ 0 h 867960"/>
                <a:gd name="textAreaBottom" fmla="*/ 868320 h 8679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7" name="Figura a mano libera 19"/>
            <p:cNvGrpSpPr/>
            <p:nvPr/>
          </p:nvGrpSpPr>
          <p:grpSpPr>
            <a:xfrm>
              <a:off x="1080" y="5504040"/>
              <a:ext cx="10079640" cy="2063520"/>
              <a:chOff x="1080" y="5504040"/>
              <a:chExt cx="10079640" cy="2063520"/>
            </a:xfrm>
          </p:grpSpPr>
          <p:pic>
            <p:nvPicPr>
              <p:cNvPr id="58" name="Figura a mano libera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080" y="5504040"/>
                <a:ext cx="100796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6840" y="5511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60" name="Connettore 1 20" descr=""/>
            <p:cNvPicPr/>
            <p:nvPr/>
          </p:nvPicPr>
          <p:blipFill>
            <a:blip r:embed="rId5"/>
            <a:stretch/>
          </p:blipFill>
          <p:spPr>
            <a:xfrm>
              <a:off x="-4680" y="5497920"/>
              <a:ext cx="10079640" cy="89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E00F-E381-43B2-9D88-EE7725B9C7A4}" type="slidenum">
              <a:rPr b="0" lang="it-IT" sz="11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igura a mano libera 12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Figura a mano libera 11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04" name="Triangolo rettangolo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105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7" name="Connettore 1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108" name="Gallone 10"/>
          <p:cNvSpPr/>
          <p:nvPr/>
        </p:nvSpPr>
        <p:spPr>
          <a:xfrm>
            <a:off x="4008600" y="331308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Gallone 15"/>
          <p:cNvSpPr/>
          <p:nvPr/>
        </p:nvSpPr>
        <p:spPr>
          <a:xfrm>
            <a:off x="3803760" y="331308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3C32-117D-452A-82B7-354C4FD4B782}" type="slidenum">
              <a:rPr b="0" lang="it-IT" sz="11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igura a mano libera 12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Figura a mano libera 11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53" name="Triangolo rettangolo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154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6" name="Connettore 1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7164-CCEF-41C2-BB8A-2C236018456A}" type="slidenum">
              <a:rPr b="0" lang="it-IT" sz="11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igura a mano libera 12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Figura a mano libera 11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0" name="Triangolo rettangolo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201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03" name="Connettore 1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5CAB-97CB-48E1-98CF-F43DD27BA03B}" type="slidenum">
              <a:rPr b="0" lang="it-IT" sz="11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igura a mano libera 12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Figura a mano libera 11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47" name="Triangolo rettangolo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248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50" name="Connettore 1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CE99-B002-4A4B-9A3C-38EF1C3D80F0}" type="slidenum">
              <a:rPr b="0" lang="it-IT" sz="11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igura a mano libera 12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Figura a mano libera 11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94" name="Triangolo rettangolo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295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97" name="Connettore 1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309F-D477-45F8-8BBC-0D58E49AEDD1}" type="slidenum">
              <a:rPr b="0" lang="it-IT" sz="11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igura a mano libera 12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Figura a mano libera 11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1" name="Triangolo rettangolo 13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342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44" name="Connettore 1 14" descr=""/>
          <p:cNvPicPr/>
          <p:nvPr/>
        </p:nvPicPr>
        <p:blipFill>
          <a:blip r:embed="rId3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345" name="Figura a mano libera 10"/>
          <p:cNvSpPr/>
          <p:nvPr/>
        </p:nvSpPr>
        <p:spPr>
          <a:xfrm>
            <a:off x="550800" y="6553080"/>
            <a:ext cx="5446800" cy="1016280"/>
          </a:xfrm>
          <a:custGeom>
            <a:avLst/>
            <a:gdLst>
              <a:gd name="textAreaLeft" fmla="*/ 0 w 5446800"/>
              <a:gd name="textAreaRight" fmla="*/ 5447160 w 544680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Figura a mano libera 15"/>
          <p:cNvSpPr/>
          <p:nvPr/>
        </p:nvSpPr>
        <p:spPr>
          <a:xfrm>
            <a:off x="534960" y="6546960"/>
            <a:ext cx="4068720" cy="1028520"/>
          </a:xfrm>
          <a:custGeom>
            <a:avLst/>
            <a:gdLst>
              <a:gd name="textAreaLeft" fmla="*/ 0 w 4068720"/>
              <a:gd name="textAreaRight" fmla="*/ 4069080 w 406872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7" name="Triangolo rettangolo 16"/>
          <p:cNvGrpSpPr/>
          <p:nvPr/>
        </p:nvGrpSpPr>
        <p:grpSpPr>
          <a:xfrm>
            <a:off x="-12600" y="6377040"/>
            <a:ext cx="3762360" cy="1206360"/>
            <a:chOff x="-12600" y="6377040"/>
            <a:chExt cx="3762360" cy="1206360"/>
          </a:xfrm>
        </p:grpSpPr>
        <p:pic>
          <p:nvPicPr>
            <p:cNvPr id="348" name="Triangolo rettangolo 16" descr=""/>
            <p:cNvPicPr/>
            <p:nvPr/>
          </p:nvPicPr>
          <p:blipFill>
            <a:blip r:embed="rId4"/>
            <a:stretch/>
          </p:blipFill>
          <p:spPr>
            <a:xfrm>
              <a:off x="-12600" y="6377040"/>
              <a:ext cx="37623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06360" y="7078680"/>
              <a:ext cx="1874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50" name="Connettore 1 18" descr=""/>
          <p:cNvPicPr/>
          <p:nvPr/>
        </p:nvPicPr>
        <p:blipFill>
          <a:blip r:embed="rId5"/>
          <a:stretch/>
        </p:blipFill>
        <p:spPr>
          <a:xfrm>
            <a:off x="-19080" y="6370560"/>
            <a:ext cx="3768840" cy="1219320"/>
          </a:xfrm>
          <a:prstGeom prst="rect">
            <a:avLst/>
          </a:prstGeom>
          <a:ln w="0">
            <a:noFill/>
          </a:ln>
        </p:spPr>
      </p:pic>
      <p:sp>
        <p:nvSpPr>
          <p:cNvPr id="351" name="Gallone 19"/>
          <p:cNvSpPr/>
          <p:nvPr/>
        </p:nvSpPr>
        <p:spPr>
          <a:xfrm>
            <a:off x="9551880" y="549900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Gallone 20"/>
          <p:cNvSpPr/>
          <p:nvPr/>
        </p:nvSpPr>
        <p:spPr>
          <a:xfrm>
            <a:off x="9345600" y="5499000"/>
            <a:ext cx="201600" cy="2523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5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503280" y="1633320"/>
            <a:ext cx="9074160" cy="498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43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84360" indent="-250920">
              <a:spcBef>
                <a:spcPts val="437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460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25892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511280" indent="-250920">
              <a:spcBef>
                <a:spcPts val="437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511280" indent="-250920">
              <a:spcBef>
                <a:spcPts val="437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7416720" y="7062840"/>
            <a:ext cx="21160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828680" y="7062840"/>
            <a:ext cx="25909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9532800" y="7062840"/>
            <a:ext cx="403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F589-2896-4131-8B3A-1F07F45FE764}" type="slidenum">
              <a:rPr b="0" lang="it-IT" sz="11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CasellaDiTesto 1"/>
          <p:cNvSpPr/>
          <p:nvPr/>
        </p:nvSpPr>
        <p:spPr>
          <a:xfrm>
            <a:off x="1619280" y="2700360"/>
            <a:ext cx="66610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000000"/>
                </a:solidFill>
                <a:latin typeface="Arial"/>
                <a:ea typeface="MS Gothic"/>
              </a:rPr>
              <a:t>IRES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CasellaDiTesto 1"/>
          <p:cNvSpPr/>
          <p:nvPr/>
        </p:nvSpPr>
        <p:spPr>
          <a:xfrm>
            <a:off x="1152360" y="2050920"/>
            <a:ext cx="82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ADESSO UN CONFRONTO CON LE ALTRE IMPOSTE…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ttangolo 1"/>
          <p:cNvSpPr/>
          <p:nvPr/>
        </p:nvSpPr>
        <p:spPr>
          <a:xfrm>
            <a:off x="863640" y="684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entrate tributarie del periodo gennaio - novembre 2010 mostrano un risultato superiore rispetto a quello registrato nel corrispondente periodo dell’anno passato, con un incremento netto di 7.212 milioni di euro (+1,9 per cento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Immagine 6" descr=""/>
          <p:cNvPicPr/>
          <p:nvPr/>
        </p:nvPicPr>
        <p:blipFill>
          <a:blip r:embed="rId1"/>
          <a:stretch/>
        </p:blipFill>
        <p:spPr>
          <a:xfrm>
            <a:off x="1798560" y="1689120"/>
            <a:ext cx="6869160" cy="3479760"/>
          </a:xfrm>
          <a:prstGeom prst="rect">
            <a:avLst/>
          </a:prstGeom>
          <a:ln w="0">
            <a:noFill/>
          </a:ln>
        </p:spPr>
      </p:pic>
      <p:sp>
        <p:nvSpPr>
          <p:cNvPr id="455" name="Rettangolo 4"/>
          <p:cNvSpPr/>
          <p:nvPr/>
        </p:nvSpPr>
        <p:spPr>
          <a:xfrm>
            <a:off x="576360" y="5243400"/>
            <a:ext cx="908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el periodo gennaio - novembre le entrate tributarie del bilancio dello Stato sono state pari a 361.719 milioni di euro, minori cioè rispetto a quelle registrate nello stesso periodo del 2009 (-1.489 milioni di euro, pari a –0,4 per cento). Tale variazione dipende dal risultato negativo dell’imposta sostitutiva su interessi e altri redditi da capitale, dovuto sia al previst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inor versamento a saldo (febbraio 2010) conseguente alla riduzione dei tassi d’interesse avvenuta nel 2009 e al minor gettito dell’IRES (-323 milioni di euro, pari a –0,9 per cento). L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uddetta flessione di gettito è parzialmente compensata dai risultati positivi soprattutto dell’IRE e dell’IVA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CasellaDiTesto 5"/>
          <p:cNvSpPr/>
          <p:nvPr/>
        </p:nvSpPr>
        <p:spPr>
          <a:xfrm>
            <a:off x="936720" y="2509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CONFRONTO TRA 2009 E 20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Grafico 4" descr=""/>
          <p:cNvPicPr/>
          <p:nvPr/>
        </p:nvPicPr>
        <p:blipFill>
          <a:blip r:embed="rId1"/>
          <a:stretch/>
        </p:blipFill>
        <p:spPr>
          <a:xfrm>
            <a:off x="3017880" y="1542960"/>
            <a:ext cx="6851520" cy="4546800"/>
          </a:xfrm>
          <a:prstGeom prst="rect">
            <a:avLst/>
          </a:prstGeom>
          <a:ln w="0">
            <a:noFill/>
          </a:ln>
        </p:spPr>
      </p:pic>
      <p:pic>
        <p:nvPicPr>
          <p:cNvPr id="458" name="Immagine 6" descr=""/>
          <p:cNvPicPr/>
          <p:nvPr/>
        </p:nvPicPr>
        <p:blipFill>
          <a:blip r:embed="rId2"/>
          <a:stretch/>
        </p:blipFill>
        <p:spPr>
          <a:xfrm>
            <a:off x="646200" y="1908000"/>
            <a:ext cx="2597040" cy="3370320"/>
          </a:xfrm>
          <a:prstGeom prst="rect">
            <a:avLst/>
          </a:prstGeom>
          <a:ln w="0">
            <a:noFill/>
          </a:ln>
        </p:spPr>
      </p:pic>
      <p:sp>
        <p:nvSpPr>
          <p:cNvPr id="459" name="CasellaDiTesto 9"/>
          <p:cNvSpPr/>
          <p:nvPr/>
        </p:nvSpPr>
        <p:spPr>
          <a:xfrm>
            <a:off x="122400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BILANCIO DELLO STATO: ENTRATE TRIBUTARIE LORD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CasellaDiTesto 10"/>
          <p:cNvSpPr/>
          <p:nvPr/>
        </p:nvSpPr>
        <p:spPr>
          <a:xfrm>
            <a:off x="6840360" y="6443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ati presi dal sito del ministero delle finanz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CasellaDiTesto 11"/>
          <p:cNvSpPr/>
          <p:nvPr/>
        </p:nvSpPr>
        <p:spPr>
          <a:xfrm>
            <a:off x="719280" y="14032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en. – nov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CasellaDiTesto 1"/>
          <p:cNvSpPr/>
          <p:nvPr/>
        </p:nvSpPr>
        <p:spPr>
          <a:xfrm>
            <a:off x="1224000" y="1692360"/>
            <a:ext cx="712944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REALIZZATO DA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5400" spc="-1" strike="noStrike">
                <a:solidFill>
                  <a:srgbClr val="000000"/>
                </a:solidFill>
                <a:latin typeface="Calibri"/>
              </a:rPr>
              <a:t>FREGONESE BETTY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5400" spc="-1" strike="noStrike">
                <a:solidFill>
                  <a:srgbClr val="000000"/>
                </a:solidFill>
                <a:latin typeface="Calibri"/>
              </a:rPr>
              <a:t>BUSO ERICA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5400" spc="-1" strike="noStrike">
                <a:solidFill>
                  <a:srgbClr val="000000"/>
                </a:solidFill>
                <a:latin typeface="Calibri"/>
              </a:rPr>
              <a:t>FUSSI MARCO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CasellaDiTesto 1"/>
          <p:cNvSpPr/>
          <p:nvPr/>
        </p:nvSpPr>
        <p:spPr>
          <a:xfrm>
            <a:off x="360360" y="900000"/>
            <a:ext cx="89996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'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RE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, cioè imposta sul reddito delle società è una imposta proporzionale e personale con aliquota del 33 % (27,5 % per i periodi d'imposta che iniziano dal 1º gennaio 2008), avente come oggetto il reddito percepito da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società di capitali, società cooperative e società di mutua assicurazione residenti nel territorio dello stato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enti pubblici ed enti  privati, diversi dalle società, nonché i  trust, residenti nel territorio dello Stato che hanno, come oggetto esclusivo o principale, l'esercizio di attività commerciali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enti pubblici ed enti privati, diversi dalle società, nonché i trust, residenti nel territorio che non hanno come oggetto l'esercizio di attività commerciale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società ed enti di qualsiasi tipo, compresi i trust, con o senza personalità giuridica, non residenti nel territorio dello Stat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È stata istituita con il d.lgs 344/2003, con la contestuale soppressione dell'IRPEG. Il legislatore ha voluto modernizzare il regime fiscale dei capitali e delle imprese facendo riferimento al modello prevalente nei Paesi dell'Unione Europe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CasellaDiTesto 1"/>
          <p:cNvSpPr/>
          <p:nvPr/>
        </p:nvSpPr>
        <p:spPr>
          <a:xfrm>
            <a:off x="900000" y="1979640"/>
            <a:ext cx="75596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  <a:ea typeface="MS Gothic"/>
              </a:rPr>
              <a:t>... DALLA TEORIA ALLA PRATICA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CasellaDiTesto 4"/>
          <p:cNvSpPr/>
          <p:nvPr/>
        </p:nvSpPr>
        <p:spPr>
          <a:xfrm>
            <a:off x="6408720" y="6588000"/>
            <a:ext cx="2879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Gothic"/>
              </a:rPr>
              <a:t>Fonte: www.finanze.i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360360" y="1547640"/>
            <a:ext cx="82915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Gothic"/>
              </a:rPr>
              <a:t>Nel 2006, il 52,4% delle Società di capitali ha dichiarato  un’Imposta sul reddito delle società positiva (48,9% nel 2005), mentre il rimanente 47,6%  ha dichiarato  un’imposta negativa o nulla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99" name="Group 9"/>
          <p:cNvGrpSpPr/>
          <p:nvPr/>
        </p:nvGrpSpPr>
        <p:grpSpPr>
          <a:xfrm>
            <a:off x="503280" y="3419640"/>
            <a:ext cx="8029440" cy="1644480"/>
            <a:chOff x="503280" y="3419640"/>
            <a:chExt cx="8029440" cy="1644480"/>
          </a:xfrm>
        </p:grpSpPr>
        <p:sp>
          <p:nvSpPr>
            <p:cNvPr id="400" name="AutoShape 8"/>
            <p:cNvSpPr/>
            <p:nvPr/>
          </p:nvSpPr>
          <p:spPr>
            <a:xfrm>
              <a:off x="684000" y="3500280"/>
              <a:ext cx="7848720" cy="15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1" name="Rectangle 10"/>
            <p:cNvSpPr/>
            <p:nvPr/>
          </p:nvSpPr>
          <p:spPr>
            <a:xfrm>
              <a:off x="6600960" y="3541680"/>
              <a:ext cx="335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Calibri"/>
                </a:rPr>
                <a:t>2005</a:t>
              </a:r>
              <a:endParaRPr b="0" lang="en-US" sz="13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2" name="Rectangle 11"/>
            <p:cNvSpPr/>
            <p:nvPr/>
          </p:nvSpPr>
          <p:spPr>
            <a:xfrm>
              <a:off x="8129880" y="3541680"/>
              <a:ext cx="335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300" spc="-1" strike="noStrike">
                  <a:solidFill>
                    <a:srgbClr val="000000"/>
                  </a:solidFill>
                  <a:latin typeface="Calibri"/>
                </a:rPr>
                <a:t>2006</a:t>
              </a:r>
              <a:endParaRPr b="0" lang="en-US" sz="13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3" name="Rectangle 12"/>
            <p:cNvSpPr/>
            <p:nvPr/>
          </p:nvSpPr>
          <p:spPr>
            <a:xfrm>
              <a:off x="735480" y="3979800"/>
              <a:ext cx="2728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Società di capitali ed enti commerciali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4" name="Rectangle 13"/>
            <p:cNvSpPr/>
            <p:nvPr/>
          </p:nvSpPr>
          <p:spPr>
            <a:xfrm>
              <a:off x="6307560" y="397980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920.257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5" name="Rectangle 14"/>
            <p:cNvSpPr/>
            <p:nvPr/>
          </p:nvSpPr>
          <p:spPr>
            <a:xfrm>
              <a:off x="7834680" y="397980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961.014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6" name="Rectangle 15"/>
            <p:cNvSpPr/>
            <p:nvPr/>
          </p:nvSpPr>
          <p:spPr>
            <a:xfrm>
              <a:off x="728280" y="4351320"/>
              <a:ext cx="43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di cui: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7" name="Rectangle 16"/>
            <p:cNvSpPr/>
            <p:nvPr/>
          </p:nvSpPr>
          <p:spPr>
            <a:xfrm>
              <a:off x="732600" y="4591080"/>
              <a:ext cx="220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dichiarazioni con Ires positiva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8" name="Rectangle 17"/>
            <p:cNvSpPr/>
            <p:nvPr/>
          </p:nvSpPr>
          <p:spPr>
            <a:xfrm>
              <a:off x="6307560" y="459108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449.704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09" name="Rectangle 18"/>
            <p:cNvSpPr/>
            <p:nvPr/>
          </p:nvSpPr>
          <p:spPr>
            <a:xfrm>
              <a:off x="7834680" y="459108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503.532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0" name="Rectangle 19"/>
            <p:cNvSpPr/>
            <p:nvPr/>
          </p:nvSpPr>
          <p:spPr>
            <a:xfrm>
              <a:off x="735120" y="4832640"/>
              <a:ext cx="342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- in % del totale di società ed enti commerciali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1" name="Rectangle 20"/>
            <p:cNvSpPr/>
            <p:nvPr/>
          </p:nvSpPr>
          <p:spPr>
            <a:xfrm>
              <a:off x="6577560" y="483264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48,9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2" name="Rectangle 21"/>
            <p:cNvSpPr/>
            <p:nvPr/>
          </p:nvSpPr>
          <p:spPr>
            <a:xfrm>
              <a:off x="8106480" y="483264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52,4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3" name="Line 22"/>
            <p:cNvSpPr/>
            <p:nvPr/>
          </p:nvSpPr>
          <p:spPr>
            <a:xfrm>
              <a:off x="691920" y="3500280"/>
              <a:ext cx="7834320" cy="360"/>
            </a:xfrm>
            <a:custGeom>
              <a:avLst/>
              <a:gdLst/>
              <a:ahLst/>
              <a:rect l="l" t="t" r="r" b="b"/>
              <a:pathLst>
                <a:path w="7834314" h="0">
                  <a:moveTo>
                    <a:pt x="0" y="0"/>
                  </a:moveTo>
                  <a:lnTo>
                    <a:pt x="7834314" y="1"/>
                  </a:lnTo>
                </a:path>
              </a:pathLst>
            </a:custGeom>
            <a:noFill/>
            <a:ln w="0">
              <a:solidFill>
                <a:srgbClr val="eeec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4" name="Rectangle 23"/>
            <p:cNvSpPr/>
            <p:nvPr/>
          </p:nvSpPr>
          <p:spPr>
            <a:xfrm>
              <a:off x="503280" y="3419640"/>
              <a:ext cx="7834320" cy="1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5" name="Line 24"/>
            <p:cNvSpPr/>
            <p:nvPr/>
          </p:nvSpPr>
          <p:spPr>
            <a:xfrm>
              <a:off x="691920" y="3740040"/>
              <a:ext cx="7834320" cy="360"/>
            </a:xfrm>
            <a:custGeom>
              <a:avLst/>
              <a:gdLst/>
              <a:ahLst/>
              <a:rect l="l" t="t" r="r" b="b"/>
              <a:pathLst>
                <a:path w="7834314" h="0">
                  <a:moveTo>
                    <a:pt x="0" y="0"/>
                  </a:moveTo>
                  <a:lnTo>
                    <a:pt x="7834314" y="1"/>
                  </a:lnTo>
                </a:path>
              </a:pathLst>
            </a:custGeom>
            <a:noFill/>
            <a:ln w="0">
              <a:solidFill>
                <a:srgbClr val="eeec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6" name="Rectangle 25"/>
            <p:cNvSpPr/>
            <p:nvPr/>
          </p:nvSpPr>
          <p:spPr>
            <a:xfrm>
              <a:off x="691920" y="3740040"/>
              <a:ext cx="7834320" cy="1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7" name="Line 26"/>
            <p:cNvSpPr/>
            <p:nvPr/>
          </p:nvSpPr>
          <p:spPr>
            <a:xfrm>
              <a:off x="691920" y="5048280"/>
              <a:ext cx="7834320" cy="360"/>
            </a:xfrm>
            <a:custGeom>
              <a:avLst/>
              <a:gdLst/>
              <a:ahLst/>
              <a:rect l="l" t="t" r="r" b="b"/>
              <a:pathLst>
                <a:path w="7834314" h="0">
                  <a:moveTo>
                    <a:pt x="0" y="0"/>
                  </a:moveTo>
                  <a:lnTo>
                    <a:pt x="7834314" y="1"/>
                  </a:lnTo>
                </a:path>
              </a:pathLst>
            </a:custGeom>
            <a:noFill/>
            <a:ln w="0">
              <a:solidFill>
                <a:srgbClr val="eeec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8" name="Rectangle 27"/>
            <p:cNvSpPr/>
            <p:nvPr/>
          </p:nvSpPr>
          <p:spPr>
            <a:xfrm>
              <a:off x="691920" y="5048280"/>
              <a:ext cx="7834320" cy="1584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19" name="CasellaDiTesto 29"/>
          <p:cNvSpPr/>
          <p:nvPr/>
        </p:nvSpPr>
        <p:spPr>
          <a:xfrm>
            <a:off x="647640" y="4665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I REDDITI DELLE SOCIETA’ DI CAPITAL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Immagine 2" descr=""/>
          <p:cNvPicPr/>
          <p:nvPr/>
        </p:nvPicPr>
        <p:blipFill>
          <a:blip r:embed="rId1"/>
          <a:stretch/>
        </p:blipFill>
        <p:spPr>
          <a:xfrm>
            <a:off x="1224000" y="1619280"/>
            <a:ext cx="3870360" cy="4473720"/>
          </a:xfrm>
          <a:prstGeom prst="rect">
            <a:avLst/>
          </a:prstGeom>
          <a:ln w="0">
            <a:noFill/>
          </a:ln>
        </p:spPr>
      </p:pic>
      <p:sp>
        <p:nvSpPr>
          <p:cNvPr id="421" name="CasellaDiTesto 9"/>
          <p:cNvSpPr/>
          <p:nvPr/>
        </p:nvSpPr>
        <p:spPr>
          <a:xfrm>
            <a:off x="6840360" y="6948360"/>
            <a:ext cx="28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Gothic"/>
              </a:rPr>
              <a:t>Fonte: www.finanze.i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5545080" y="176364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a distribuzione delle Società di capitali con imposta positiva riflette la distribuzione del PIL fra le regioni del Nord e quelle del Centro-Sud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Tuttavia, l’imposta netta è maggiore nelle regioni del Nord, dove si concentra più del 67% dell’imposta positiva total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394560" y="1916280"/>
            <a:ext cx="75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31,9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eece1"/>
                </a:solidFill>
                <a:latin typeface="Calibri"/>
              </a:rPr>
              <a:t>47,7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Calibri"/>
              </a:rPr>
              <a:t>31,9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566160" y="1692360"/>
            <a:ext cx="75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1,0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eece1"/>
                </a:solidFill>
                <a:latin typeface="Calibri"/>
              </a:rPr>
              <a:t>19,5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Calibri"/>
              </a:rPr>
              <a:t>22,5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1694520" y="3059280"/>
            <a:ext cx="75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5,4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eece1"/>
                </a:solidFill>
                <a:latin typeface="Calibri"/>
              </a:rPr>
              <a:t>25,6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Calibri"/>
              </a:rPr>
              <a:t>21,6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503280" y="543564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mpres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eeece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eece1"/>
                </a:solidFill>
                <a:latin typeface="Calibri"/>
              </a:rPr>
              <a:t>  </a:t>
            </a:r>
            <a:r>
              <a:rPr b="1" lang="it-IT" sz="1800" spc="-1" strike="noStrike">
                <a:solidFill>
                  <a:srgbClr val="eeece1"/>
                </a:solidFill>
                <a:latin typeface="Calibri"/>
              </a:rPr>
              <a:t>Imposta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Calibri"/>
              </a:rPr>
              <a:t>  </a:t>
            </a:r>
            <a:r>
              <a:rPr b="1" lang="it-IT" sz="1800" spc="-1" strike="noStrike">
                <a:solidFill>
                  <a:srgbClr val="ff6600"/>
                </a:solidFill>
                <a:latin typeface="Calibri"/>
              </a:rPr>
              <a:t>PI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4574520" y="4932360"/>
            <a:ext cx="75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21,7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eece1"/>
                </a:solidFill>
                <a:latin typeface="Calibri"/>
              </a:rPr>
              <a:t>  </a:t>
            </a:r>
            <a:r>
              <a:rPr b="1" lang="it-IT" sz="1800" spc="-1" strike="noStrike">
                <a:solidFill>
                  <a:srgbClr val="eeece1"/>
                </a:solidFill>
                <a:latin typeface="Calibri"/>
              </a:rPr>
              <a:t>7,2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Calibri"/>
              </a:rPr>
              <a:t>24,0%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CasellaDiTesto 19"/>
          <p:cNvSpPr/>
          <p:nvPr/>
        </p:nvSpPr>
        <p:spPr>
          <a:xfrm>
            <a:off x="647640" y="39528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OVE SONO LOCALIZZATE LE SOCIETA’ DI CAPITALI CON IMPOSTA POSITIV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CasellaDiTesto 3"/>
          <p:cNvSpPr/>
          <p:nvPr/>
        </p:nvSpPr>
        <p:spPr>
          <a:xfrm>
            <a:off x="6624720" y="6516720"/>
            <a:ext cx="270036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Gothic"/>
              </a:rPr>
              <a:t>(*) Fonte: Ista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Gothic"/>
              </a:rPr>
              <a:t>Fonte: www.finanze.i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1"/>
          <a:stretch/>
        </p:blipFill>
        <p:spPr>
          <a:xfrm>
            <a:off x="936720" y="1476360"/>
            <a:ext cx="8137440" cy="506268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2"/>
          <p:cNvSpPr/>
          <p:nvPr/>
        </p:nvSpPr>
        <p:spPr>
          <a:xfrm>
            <a:off x="287280" y="539640"/>
            <a:ext cx="914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MS Gothic"/>
              </a:rPr>
              <a:t>Distribuzione dell’imposta netta e incidenza sul valore aggiunto (*) per settore di attività econom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CasellaDiTesto 1"/>
          <p:cNvSpPr/>
          <p:nvPr/>
        </p:nvSpPr>
        <p:spPr>
          <a:xfrm>
            <a:off x="503280" y="1258920"/>
            <a:ext cx="90010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ANALISI DEL GRAFIC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Le società che contribuiscono di più all'imposta netta, in termini assoluti, sono quelle operanti nei settori dell'industria, del commercio, del credito e delle attività immobiliar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In rapporto al valore aggiunto prodotto dal settore, il contributo più elevato di osserva nel settore del credito e, in secondo ordine, nell'industri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COMMEN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Infatti l'Italia è uno dei paesi più sviluppati e industrializzati del mondo, di conseguenza il settore che influisce maggiormente nel sistema è il terziario; pertanto le società che contribuiscono di più all'Ires sono quelle che operano in questo ambit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"/>
          <p:cNvSpPr/>
          <p:nvPr/>
        </p:nvSpPr>
        <p:spPr>
          <a:xfrm>
            <a:off x="395280" y="1628640"/>
            <a:ext cx="82915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Gothic"/>
              </a:rPr>
              <a:t>Rispetto all’IRAP, l’IRES coinvolge in percentuale un minor numero di Società con una base imponibile e un’imposta netta positiv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34" name="Group 9"/>
          <p:cNvGrpSpPr/>
          <p:nvPr/>
        </p:nvGrpSpPr>
        <p:grpSpPr>
          <a:xfrm>
            <a:off x="684360" y="3290760"/>
            <a:ext cx="7920000" cy="1290600"/>
            <a:chOff x="684360" y="3290760"/>
            <a:chExt cx="7920000" cy="1290600"/>
          </a:xfrm>
        </p:grpSpPr>
        <p:sp>
          <p:nvSpPr>
            <p:cNvPr id="435" name="AutoShape 8"/>
            <p:cNvSpPr/>
            <p:nvPr/>
          </p:nvSpPr>
          <p:spPr>
            <a:xfrm>
              <a:off x="684360" y="3290760"/>
              <a:ext cx="7920000" cy="12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6" name="Rectangle 10"/>
            <p:cNvSpPr/>
            <p:nvPr/>
          </p:nvSpPr>
          <p:spPr>
            <a:xfrm>
              <a:off x="6016320" y="3328560"/>
              <a:ext cx="29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Irap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7" name="Rectangle 11"/>
            <p:cNvSpPr/>
            <p:nvPr/>
          </p:nvSpPr>
          <p:spPr>
            <a:xfrm>
              <a:off x="7641360" y="3328560"/>
              <a:ext cx="27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Ires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8" name="Rectangle 12"/>
            <p:cNvSpPr/>
            <p:nvPr/>
          </p:nvSpPr>
          <p:spPr>
            <a:xfrm>
              <a:off x="739440" y="3589200"/>
              <a:ext cx="355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Società di capitali con reddito imponibile positivo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9" name="Rectangle 13"/>
            <p:cNvSpPr/>
            <p:nvPr/>
          </p:nvSpPr>
          <p:spPr>
            <a:xfrm>
              <a:off x="5934960" y="3589200"/>
              <a:ext cx="44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64,3%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0" name="Rectangle 14"/>
            <p:cNvSpPr/>
            <p:nvPr/>
          </p:nvSpPr>
          <p:spPr>
            <a:xfrm>
              <a:off x="7551000" y="3589200"/>
              <a:ext cx="44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52,4%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1" name="Rectangle 15"/>
            <p:cNvSpPr/>
            <p:nvPr/>
          </p:nvSpPr>
          <p:spPr>
            <a:xfrm>
              <a:off x="734760" y="4098960"/>
              <a:ext cx="2830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Società di capitali con imposta positiva 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2" name="Rectangle 16"/>
            <p:cNvSpPr/>
            <p:nvPr/>
          </p:nvSpPr>
          <p:spPr>
            <a:xfrm>
              <a:off x="5934960" y="4098960"/>
              <a:ext cx="44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63,9%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3" name="Rectangle 17"/>
            <p:cNvSpPr/>
            <p:nvPr/>
          </p:nvSpPr>
          <p:spPr>
            <a:xfrm>
              <a:off x="7551000" y="4098960"/>
              <a:ext cx="44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52,4%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4" name="Rectangle 18"/>
            <p:cNvSpPr/>
            <p:nvPr/>
          </p:nvSpPr>
          <p:spPr>
            <a:xfrm>
              <a:off x="731160" y="4354560"/>
              <a:ext cx="23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alibri"/>
                </a:rPr>
                <a:t>(quota % del totale delle società)</a:t>
              </a:r>
              <a:endParaRPr b="0" lang="en-US" sz="1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5" name="Line 19"/>
            <p:cNvSpPr/>
            <p:nvPr/>
          </p:nvSpPr>
          <p:spPr>
            <a:xfrm>
              <a:off x="692280" y="3544560"/>
              <a:ext cx="7905960" cy="360"/>
            </a:xfrm>
            <a:custGeom>
              <a:avLst/>
              <a:gdLst/>
              <a:ahLst/>
              <a:rect l="l" t="t" r="r" b="b"/>
              <a:pathLst>
                <a:path w="7905746" h="0">
                  <a:moveTo>
                    <a:pt x="0" y="0"/>
                  </a:moveTo>
                  <a:lnTo>
                    <a:pt x="7905746" y="1"/>
                  </a:lnTo>
                </a:path>
              </a:pathLst>
            </a:custGeom>
            <a:noFill/>
            <a:ln w="0">
              <a:solidFill>
                <a:srgbClr val="eeec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6" name="Rectangle 20"/>
            <p:cNvSpPr/>
            <p:nvPr/>
          </p:nvSpPr>
          <p:spPr>
            <a:xfrm>
              <a:off x="692280" y="3544560"/>
              <a:ext cx="7905960" cy="1728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7" name="Line 21"/>
            <p:cNvSpPr/>
            <p:nvPr/>
          </p:nvSpPr>
          <p:spPr>
            <a:xfrm>
              <a:off x="692280" y="4564080"/>
              <a:ext cx="7905960" cy="360"/>
            </a:xfrm>
            <a:custGeom>
              <a:avLst/>
              <a:gdLst/>
              <a:ahLst/>
              <a:rect l="l" t="t" r="r" b="b"/>
              <a:pathLst>
                <a:path w="7905746" h="0">
                  <a:moveTo>
                    <a:pt x="0" y="0"/>
                  </a:moveTo>
                  <a:lnTo>
                    <a:pt x="7905746" y="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8" name="Rectangle 22"/>
            <p:cNvSpPr/>
            <p:nvPr/>
          </p:nvSpPr>
          <p:spPr>
            <a:xfrm>
              <a:off x="692280" y="4564080"/>
              <a:ext cx="7905960" cy="17280"/>
            </a:xfrm>
            <a:prstGeom prst="rect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49" name="Rectangle 2"/>
          <p:cNvSpPr/>
          <p:nvPr/>
        </p:nvSpPr>
        <p:spPr>
          <a:xfrm>
            <a:off x="425520" y="836640"/>
            <a:ext cx="8291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MS Gothic"/>
              </a:rPr>
              <a:t>La relazione tra IRAP e IR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CasellaDiTesto 18"/>
          <p:cNvSpPr/>
          <p:nvPr/>
        </p:nvSpPr>
        <p:spPr>
          <a:xfrm>
            <a:off x="6624720" y="6516720"/>
            <a:ext cx="2879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S Gothic"/>
              </a:rPr>
              <a:t>Fonte: www.finanze.i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250920" y="1413000"/>
            <a:ext cx="83134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63640" indent="-324000" algn="just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In Italia vi sono meno di 1 milione di contribuenti IRES e la gran parte sono S.r.l. la cui presenza relativa si è incrementata negli ultimi ann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3640" indent="-324000" algn="just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La dimensione delle Società di capitali è piuttosto limitata e solo l’1% delle Società ha una dimensione superiore ai 50 milioni di componenti positivi IRAP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3640" indent="-324000" algn="just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Nel 2006, il 52% delle Società di capitali ha dichiarato un’imposta netta positiva, il rimanente 48% ha imposta negativa o null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3640" indent="-324000" algn="just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S Gothic"/>
              </a:rPr>
              <a:t>La distribuzione dell'imposta netta è fortemente concentrata sulle imprese di dimensioni maggiori e lo 0,8%  delle Società di capitali dichiara il 60% dell’imposta nett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08:39:57Z</dcterms:created>
  <dc:creator>ISTITUTO TECNICO STATALE COM</dc:creator>
  <dc:description/>
  <dc:language>en-US</dc:language>
  <cp:lastModifiedBy>Fregonese Flavio</cp:lastModifiedBy>
  <dcterms:modified xsi:type="dcterms:W3CDTF">2011-03-24T15:21:55Z</dcterms:modified>
  <cp:revision>1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</Properties>
</file>